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81532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33520" y="3613680"/>
            <a:ext cx="81532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39787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11680" y="1066320"/>
            <a:ext cx="39787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33520" y="3613680"/>
            <a:ext cx="39787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11680" y="3613680"/>
            <a:ext cx="39787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2625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90400" y="1066320"/>
            <a:ext cx="2625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46920" y="1066320"/>
            <a:ext cx="2625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33520" y="3613680"/>
            <a:ext cx="2625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90400" y="3613680"/>
            <a:ext cx="2625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46920" y="3613680"/>
            <a:ext cx="2625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533520" y="106632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39787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11680" y="1066320"/>
            <a:ext cx="39787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81532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39787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1680" y="1066320"/>
            <a:ext cx="39787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33520" y="3613680"/>
            <a:ext cx="39787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39787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11680" y="1066320"/>
            <a:ext cx="39787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11680" y="3613680"/>
            <a:ext cx="39787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39787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11680" y="1066320"/>
            <a:ext cx="39787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33520" y="3613680"/>
            <a:ext cx="81532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520" y="106632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33520" y="990720"/>
            <a:ext cx="815328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813800" y="131760"/>
            <a:ext cx="1218960" cy="738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1015920"/>
            <a:ext cx="7772400" cy="55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Spectrum of languages</a:t>
            </a:r>
            <a:br>
              <a:rPr sz="2800"/>
            </a:br>
            <a:br>
              <a:rPr sz="3600"/>
            </a:b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Ralf W. Grosse-Kunstleve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Computational Crystallography Initiative</a:t>
            </a:r>
            <a:br>
              <a:rPr sz="2000"/>
            </a:b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Lawrence Berkeley National Laborat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431640" y="104760"/>
            <a:ext cx="8026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       </a:t>
            </a:r>
            <a:r>
              <a:rPr b="1" i="1" lang="en-US" sz="2000" spc="-1" strike="noStrike">
                <a:solidFill>
                  <a:srgbClr val="3333cc"/>
                </a:solidFill>
                <a:latin typeface="Arial"/>
              </a:rPr>
              <a:t>Siena Computational Crystallography School 200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104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clusion languag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247400"/>
            <a:ext cx="8245440" cy="53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It is important to know the modern concep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Especially for ambitious pro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Syntax is secondar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Anything that does the job is accept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Python, C++, csh, sh, bat, Perl, Jav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There is no one size fits all solu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But Python &amp; C++ covers the entire spectru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Carefully weigh programmer efficiency vs. runtime efficienc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Prefer a scripting language unless runtime efficiency is essentia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104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247400"/>
            <a:ext cx="8245440" cy="53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Organizers of this meet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Paul Adam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Pavel Afonin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Peter Zwa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Nick Saut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Nigel Moriar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Erik McKe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Kevin Cowt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David Abraham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Open source communi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49640" y="5842080"/>
            <a:ext cx="415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http://www.phenix-online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647240" y="5843520"/>
            <a:ext cx="415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http://cctbx.sourceforge.net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912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pectrum of implementation languag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33520" y="1434600"/>
            <a:ext cx="8153280" cy="47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Python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Interpreted, Object Oriented, Exception ha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C++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Compiled, Object Oriented, Exception ha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C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Compiled, User defined data types, Dynamic memory managem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Fortran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Compiled, Some high-level data types (N-dim arrays, complex number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Assembler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Computer program is needed to translate to machine cod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Machine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Directly executed by the CP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trix of language properti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533520" y="1371600"/>
          <a:ext cx="8152920" cy="4876560"/>
        </p:xfrm>
        <a:graphic>
          <a:graphicData uri="http://schemas.openxmlformats.org/drawingml/2006/table">
            <a:tbl>
              <a:tblPr/>
              <a:tblGrid>
                <a:gridCol w="2717640"/>
                <a:gridCol w="2717280"/>
                <a:gridCol w="2718000"/>
              </a:tblGrid>
              <a:tr h="162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Dynamicall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typ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-&gt; convenien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Staticall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typ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-&gt; spe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Interpret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-&gt; convenien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Pyth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Jav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Compiled to machine cod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-&gt; spe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Psyc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C+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grammer Efficiency &amp; Performanc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715000" y="2057400"/>
            <a:ext cx="25146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Maintain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Reus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Modular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14440" y="1752120"/>
            <a:ext cx="6248160" cy="4270320"/>
            <a:chOff x="514440" y="1752120"/>
            <a:chExt cx="6248160" cy="4270320"/>
          </a:xfrm>
        </p:grpSpPr>
        <p:sp>
          <p:nvSpPr>
            <p:cNvPr id="49" name=""/>
            <p:cNvSpPr/>
            <p:nvPr/>
          </p:nvSpPr>
          <p:spPr>
            <a:xfrm rot="2628000">
              <a:off x="1885680" y="2946240"/>
              <a:ext cx="2552760" cy="741600"/>
            </a:xfrm>
            <a:prstGeom prst="ellipse">
              <a:avLst/>
            </a:prstGeom>
            <a:solidFill>
              <a:srgbClr val="9900ff"/>
            </a:solidFill>
            <a:ln w="3240">
              <a:solidFill>
                <a:srgbClr val="99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" name=""/>
            <p:cNvGrpSpPr/>
            <p:nvPr/>
          </p:nvGrpSpPr>
          <p:grpSpPr>
            <a:xfrm>
              <a:off x="1314360" y="1771560"/>
              <a:ext cx="3581280" cy="3581280"/>
              <a:chOff x="1314360" y="1771560"/>
              <a:chExt cx="3581280" cy="3581280"/>
            </a:xfrm>
          </p:grpSpPr>
          <p:sp>
            <p:nvSpPr>
              <p:cNvPr id="51" name=""/>
              <p:cNvSpPr/>
              <p:nvPr/>
            </p:nvSpPr>
            <p:spPr>
              <a:xfrm flipV="1">
                <a:off x="1314360" y="1771560"/>
                <a:ext cx="0" cy="3581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1314360" y="5352840"/>
                <a:ext cx="35812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" name=""/>
            <p:cNvSpPr/>
            <p:nvPr/>
          </p:nvSpPr>
          <p:spPr>
            <a:xfrm>
              <a:off x="4476600" y="4495680"/>
              <a:ext cx="228600" cy="228600"/>
            </a:xfrm>
            <a:prstGeom prst="ellipse">
              <a:avLst/>
            </a:prstGeom>
            <a:solidFill>
              <a:srgbClr val="ff5050"/>
            </a:solidFill>
            <a:ln w="324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476600" y="4952880"/>
              <a:ext cx="228600" cy="228600"/>
            </a:xfrm>
            <a:prstGeom prst="ellipse">
              <a:avLst/>
            </a:prstGeom>
            <a:solidFill>
              <a:srgbClr val="cc0000"/>
            </a:solidFill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038320" y="5562720"/>
              <a:ext cx="2133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erforman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rot="16200000">
              <a:off x="-1046160" y="3313080"/>
              <a:ext cx="358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rogrammer Efficienc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rot="2628000">
              <a:off x="2685600" y="3492360"/>
              <a:ext cx="1600200" cy="304920"/>
            </a:xfrm>
            <a:prstGeom prst="ellipse">
              <a:avLst/>
            </a:prstGeom>
            <a:solidFill>
              <a:srgbClr val="009999"/>
            </a:solidFill>
            <a:ln w="3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62000" y="1981080"/>
              <a:ext cx="228600" cy="228600"/>
            </a:xfrm>
            <a:prstGeom prst="ellipse">
              <a:avLst/>
            </a:prstGeom>
            <a:solidFill>
              <a:srgbClr val="3333ff"/>
            </a:solidFill>
            <a:ln w="324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190600" y="1828800"/>
              <a:ext cx="114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yth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800440" y="2247840"/>
              <a:ext cx="114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++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714840" y="3149640"/>
              <a:ext cx="114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78280" y="4165560"/>
              <a:ext cx="114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Fortra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781520" y="440064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ssembl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800600" y="4857840"/>
              <a:ext cx="196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Machine 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879720" y="4013280"/>
              <a:ext cx="228600" cy="228600"/>
            </a:xfrm>
            <a:prstGeom prst="ellipse">
              <a:avLst/>
            </a:prstGeom>
            <a:solidFill>
              <a:srgbClr val="ff6600"/>
            </a:solidFill>
            <a:ln w="32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76705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hoice of implementation languag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8153280" cy="47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Python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Font typeface="Arial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Very high-level programm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Font typeface="Arial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Easy to use (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dynamic typing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Font typeface="Arial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Fast development cycle (no compilation required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Too slow for certain task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C++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Font typeface="Arial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High-level or medium-level programm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Many arcane details (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trong static typing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Font typeface="Arial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Largely automatic dynamic memory management (templates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Font typeface="Arial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Much faster than Pyth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Font typeface="Arial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With enough attention, performance even rivals that of FORTR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76705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Happy marriage: Python and C++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1532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Syntactic differences put aside, Python and C++ objects and functions are very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imilar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Flexibility (interpreted, dynamically typed) and</a:t>
            </a:r>
            <a:br>
              <a:rPr sz="1800"/>
            </a:b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Efficiency (compiled, statically typed) ar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omplementary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Boost.Python (C++ library) provides the link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Non-intrusive on the C++ desig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Pseudo-automatic wrapping using C++ template techniqu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No external tools need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Creates sub-classable Python typ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Python bindings are very maintaina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Tutorial and reference document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class_&lt;unit_cell&gt;("unit_cell"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.def("volume", &amp;unit_cell::volum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.def("fractionalize", &amp;unit_cell::fractionaliz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04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ector operati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247400"/>
            <a:ext cx="7772400" cy="53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Computer Science wisdom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Typically 90% of the time is spent in 10% of the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Similar to idea behind vector computer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Python = Scalar Uni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C++ = Vector Uni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Loading the vector unit: (8.7 seconds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miller_indices = flex.miller_index(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for h in xrange(100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for k in xrange(100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for l in xrange(100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miller_indices.append((h,k,l)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Go! (0.65 seconds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space_group = sgtbx.space_group_info("P 41 21 2").group(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epsilons = space_group.epsilon(miller_indic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Computing 1 million epsilons takes only 0.65 seconds!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04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piled vs. Interprete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247400"/>
            <a:ext cx="7772400" cy="53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Compil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generates fast machine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Interpreter (Python, Perl, TCL/TK, Java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may generate byte-code but not machine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04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piled vs. Interprete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247400"/>
            <a:ext cx="7772400" cy="53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Compil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generates fast machine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eeds arcane compilation comman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eeds arcane link comman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generates object files (where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ay generate a template repository (where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generates libraries (where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generates executables (where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eeds a build tool (make, SCon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ll this is platform depend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Interpreter (Python, Perl, TCL/TK, Java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may generate byte-code but not machine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11T00:54:07Z</dcterms:created>
  <dc:creator>Preferred Customer</dc:creator>
  <dc:description/>
  <dc:language>en-US</dc:language>
  <cp:lastModifiedBy>rwgk</cp:lastModifiedBy>
  <cp:lastPrinted>2000-05-17T13:59:33Z</cp:lastPrinted>
  <dcterms:modified xsi:type="dcterms:W3CDTF">2005-08-19T08:10:31Z</dcterms:modified>
  <cp:revision>750</cp:revision>
  <dc:subject/>
  <dc:title>High-throughput structure determination</dc:title>
</cp:coreProperties>
</file>