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27678"/>
        <c:axId val="58927094"/>
      </c:barChart>
      <c:catAx>
        <c:axId val="94427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27094"/>
        <c:crosses val="autoZero"/>
        <c:auto val="1"/>
        <c:lblAlgn val="ctr"/>
        <c:lblOffset val="100"/>
        <c:noMultiLvlLbl val="0"/>
      </c:catAx>
      <c:valAx>
        <c:axId val="58927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27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F13-28D7-4E95-9CA6-9054A064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2B8-4186-4344-BB5D-2A3CFF2E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A63-7F18-4E2D-A4B7-F6434F1D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72B-3228-40FE-BB17-7D539C5F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EF6-5483-429D-8BAF-536AACDF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119-38D0-476C-A40E-D1598398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BD6-FCEC-407D-9EF8-6E720A6D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018-49BA-4E12-9CD9-FECDE5A7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789-1CE4-4380-A503-66296C68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253-30DB-4149-96DE-2CDBD328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BD5-8AEC-42C0-B52E-265C4DB6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959-5BD8-4EE4-80B0-2C0E98AE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4ADEE-2172-4487-8BBA-FCECDD28EC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